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7B0-BC02-43E7-A731-F1D86AB2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A4E-4947-4D89-A7C6-2E9A96E6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7AB-5F1C-4111-A766-3D0B71DE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EF7-DF3F-4676-AC46-ED17D2BC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741-6E34-4C4D-B475-23335E6B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B1B-14EC-4F6D-B5B4-9CDF19BC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511B-AC17-4234-B6B9-1F6040D1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456-5B82-4334-AE4E-26046945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B863-0146-42C7-B5D1-34459391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DF8-870F-4DA2-8F8A-A471B20B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AAC0-CA0F-454B-80C3-4D0C5B89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070-0F50-4B13-8A18-A101FA2F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FDFD-0C7B-4667-A0F6-52ED84461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520" y="1622520"/>
            <a:ext cx="350496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Sarah and Os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s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i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ere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ju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wh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ere probab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ing to s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circ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give 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know you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, wild tig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Zhom. Welcome to the jungle. </a:t>
            </a: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Digital Image. &lt;</a:t>
            </a:r>
            <a:r>
              <a:rPr b="0" lang="es-CO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flickr.com/photos/neezhom/3434639670/</a:t>
            </a: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&gt;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monautirussi. The small enchanted circus at night. Digital picture. &lt;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flickr.com/photos/cosmonautirussi/2475112519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gitalART2. Big Tiger Cub!. Digital picture. &lt;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flickr.com/photos/digitalart/1906662004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2514600" y="53352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2:34:29Z</dcterms:created>
  <dc:creator>Fac - Montgomery,Bruce</dc:creator>
  <dc:description/>
  <dc:language>en-US</dc:language>
  <cp:lastModifiedBy>cyndi.vander_ven</cp:lastModifiedBy>
  <dcterms:modified xsi:type="dcterms:W3CDTF">2009-04-17T13:10:56Z</dcterms:modified>
  <cp:revision>4</cp:revision>
  <dc:subject/>
  <dc:title>Tigers</dc:title>
</cp:coreProperties>
</file>